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2F2-576B-4E55-A998-659DDFE2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493-A05D-4DEE-B9B2-B27A4520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EA7C-FACC-4DF4-88F7-99CD95E7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sciencehq.com/biology/kingdoms-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7FD-BFB0-4ADD-B5E6-281EAEF9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arner.org/courses/envsci/unit/text.php?unit=9&amp;secNum=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 Woese…shows evolutionary relationships between 3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E40-41B2-4B72-83E1-AF0D0AD7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intersscience.wikispaces.com/Kingdoms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lso Table 1 on page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BB92-BC93-4063-A096-C490B0F3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barcodes.co.za/blog/the-barcode-of-life-dna-barcoding-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98B-2715-4B5F-B44F-D57688E6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lad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C435-57FC-478D-BE77-218D855A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b.bioninja.com.au/options/option-d-evolution-2/d5-phylogeny-and-systemat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9F2D-F5DD-433B-81D4-6E34F558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logeny/Lec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6B7-F7A5-4939-B959-95E86CAF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ature/journal/v496/n7445/fig_tab/nature1202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E9B-D212-4675-9BC2-17CBA832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evolution-synapomorphies-clad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048-C0D6-4AAD-807E-74F8215A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zzlersworld.com/picture-puzzles/how-many-triangles-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E78-D2C1-4B4C-892A-6ADF43AC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E98-7F2E-4DA5-8C0A-215BC1F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AFE-F2FC-418C-8AEC-C2C8FAEF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900-8A12-4BA7-8B5C-535895B0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053-751A-4546-846C-AB63C75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6CC-8293-49E0-A92C-7760A823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EED-757C-42CD-B001-A0ED660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21C-8EA4-4B2E-A24A-19DF13A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39B-A6F4-46A3-AC31-95A0C39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1C6-1FDB-4A00-B939-EA6BC86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AC9-919F-40FE-BB78-BF25AF7E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9E6-0D00-4494-8749-A4C7101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00E7-FD88-4E42-A9A2-4ECABEEB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rcodeoflife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&amp;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s &amp;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kingdoms"/>
          <p:cNvPicPr/>
          <p:nvPr/>
        </p:nvPicPr>
        <p:blipFill>
          <a:blip r:embed="rId1"/>
          <a:stretch/>
        </p:blipFill>
        <p:spPr>
          <a:xfrm>
            <a:off x="685800" y="16891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ommon_ancestor"/>
          <p:cNvPicPr/>
          <p:nvPr/>
        </p:nvPicPr>
        <p:blipFill>
          <a:blip r:embed="rId1"/>
          <a:stretch/>
        </p:blipFill>
        <p:spPr>
          <a:xfrm>
            <a:off x="304920" y="1682640"/>
            <a:ext cx="86104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6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10-02-26_1200"/>
          <p:cNvPicPr/>
          <p:nvPr/>
        </p:nvPicPr>
        <p:blipFill>
          <a:blip r:embed="rId1"/>
          <a:stretch/>
        </p:blipFill>
        <p:spPr>
          <a:xfrm>
            <a:off x="304920" y="1787400"/>
            <a:ext cx="85341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code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021600_orig"/>
          <p:cNvPicPr/>
          <p:nvPr/>
        </p:nvPicPr>
        <p:blipFill>
          <a:blip r:embed="rId1"/>
          <a:stretch/>
        </p:blipFill>
        <p:spPr>
          <a:xfrm>
            <a:off x="981000" y="1676520"/>
            <a:ext cx="7027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 interested in learning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ational consortium developing DNA barcoding for species ident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arcodeoflife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: DNA barcoding was first proposed by Paul Hebert, a researcher at the University of Guelph in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hyloge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evolutionary relatedness between, and amo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etic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how evolutionary relationships between different spe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 called clad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50px-Identical_cladograms"/>
          <p:cNvPicPr/>
          <p:nvPr/>
        </p:nvPicPr>
        <p:blipFill>
          <a:blip r:embed="rId1"/>
          <a:stretch/>
        </p:blipFill>
        <p:spPr>
          <a:xfrm>
            <a:off x="4267080" y="254952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hylogeny_tree_med"/>
          <p:cNvPicPr/>
          <p:nvPr/>
        </p:nvPicPr>
        <p:blipFill>
          <a:blip r:embed="rId1"/>
          <a:stretch/>
        </p:blipFill>
        <p:spPr>
          <a:xfrm>
            <a:off x="685800" y="1289160"/>
            <a:ext cx="7772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5-11-Cladogram-AL"/>
          <p:cNvPicPr/>
          <p:nvPr/>
        </p:nvPicPr>
        <p:blipFill>
          <a:blip r:embed="rId1"/>
          <a:stretch/>
        </p:blipFill>
        <p:spPr>
          <a:xfrm>
            <a:off x="304920" y="1657440"/>
            <a:ext cx="8534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nature12027-f1"/>
          <p:cNvPicPr/>
          <p:nvPr/>
        </p:nvPicPr>
        <p:blipFill>
          <a:blip r:embed="rId1"/>
          <a:stretch/>
        </p:blipFill>
        <p:spPr>
          <a:xfrm>
            <a:off x="993600" y="304920"/>
            <a:ext cx="715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groups of organisms &amp; their common ance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monophylet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monophyly"/>
          <p:cNvPicPr/>
          <p:nvPr/>
        </p:nvPicPr>
        <p:blipFill>
          <a:blip r:embed="rId1"/>
          <a:stretch/>
        </p:blipFill>
        <p:spPr>
          <a:xfrm>
            <a:off x="4621320" y="1676520"/>
            <a:ext cx="386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riang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w-many-triangles-in-this-triangle"/>
          <p:cNvPicPr/>
          <p:nvPr/>
        </p:nvPicPr>
        <p:blipFill>
          <a:blip r:embed="rId1"/>
          <a:stretch/>
        </p:blipFill>
        <p:spPr>
          <a:xfrm>
            <a:off x="1670040" y="1523880"/>
            <a:ext cx="580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ry Tutorial 1 on pages 22-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44:34Z</dcterms:created>
  <dc:creator>rubina khan</dc:creator>
  <dc:description/>
  <dc:language>en-US</dc:language>
  <cp:lastModifiedBy>rubina khan</cp:lastModifiedBy>
  <dcterms:modified xsi:type="dcterms:W3CDTF">2016-02-10T03:59:05Z</dcterms:modified>
  <cp:revision>28</cp:revision>
  <dc:subject/>
  <dc:title>PowerPoint Presentation</dc:title>
</cp:coreProperties>
</file>